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DD4-7252-478D-A3A9-298406CC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372-E8C9-42DA-9FE0-F82D7B31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6F0-7478-43A4-9C1C-4578C40F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8F6-ADDB-47F7-959C-00F4A83B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5FE2-9F9F-4F32-B61C-B95E00B2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4D00-E9DA-4275-87D6-6CA8EAED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B9AD-C4E8-4419-B327-293ECFC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C4D2-7BED-4AFD-99A1-F9315EE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100-42AD-4A02-A10A-8818AA4A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EFC3-FD7E-4757-AF5D-94AA790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BE3-E0D3-44DF-BD61-96A823D7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7A9-FC26-492C-AD7F-091217F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0D05-1DA8-403F-BFBB-F593192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2F4B-9EED-4E00-9727-72283F4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9D14-640A-4C4F-A389-604DD13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2E58-AFEB-41E6-A9C7-7B97D7CA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777E-9D33-4FFE-9F12-95A5551C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3C8-CB39-433A-85EF-7FEFEFF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EA6-D1A3-4405-960C-9F4AC883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8B9-6743-4940-86CC-8696864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190-9C84-4281-8366-2F5A056F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162-7CAF-4AAD-94C7-09BBD87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A51-082E-4B37-881A-0D45ADF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68E-C495-428E-BCA9-B9548C7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188-4676-4642-AD99-E88B5BD6A76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4ABE-64BE-4DA3-A569-88FDFC0A358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PifqJEKl8BY6qHBqMX;_ylu=X3oDMTBwanIybjRqBHBndANhdHdfaW1nX3Jlc3VsdARzZWMDc3I-/SIG=12kgtd342/EXP=1151586402/**http%3A//www.jeanne-sauve.cepeo.on.ca/societe/images/recyclage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av.rds.yahoo.com/_ylt=A0Je5XE9f6JEpS0B94aHBqMX;_ylu=X3oDMTBwanIybjRqBHBndANhdHdfaW1nX3Jlc3VsdARzZWMDc3I-/SIG=123ma8s7r/EXP=1151586493/**http%3A//www.emagictricks.co.uk/images/Lp2859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v.rds.yahoo.com/_ylt=A0Je5XAPbqtEJYYBL1.HBqMX;_ylu=X3oDMTBwanIybjRqBHBndANhdHdfaW1nX3Jlc3VsdARzZWMDc3I-/SIG=11u4396fu/EXP=1152171919/**http%3A//www.ale-lyon.org/ImageEtiketNRJ.gif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v.rds.yahoo.com/_ylt=A0Je5XXacqtE.CYBt16HBqMX;_ylu=X3oDMTBwanIybjRqBHBndANhdHdfaW1nX3Jlc3VsdARzZWMDc3I-/SIG=12u3i6t66/EXP=1152173146/**http%3A//newsimg.bbc.co.uk/media/images/39114000/jpg/_39114577_petrol203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av.rds.yahoo.com/_ylt=A0Je5XJIc6tE1YcAWJ6HBqMX;_ylu=X3oDMTBwanIybjRqBHBndANhdHdfaW1nX3Jlc3VsdARzZWMDc3I-/SIG=12fppc03n/EXP=1152173256/**http%3A//www.ville-bondy.fr/environnement/image/poubelle1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981000"/>
            <a:ext cx="56052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'environn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2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énergie : 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1484280"/>
            <a:ext cx="38145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entre de recyc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492280"/>
            <a:ext cx="2160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00280"/>
            <a:ext cx="280836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conom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4581360"/>
            <a:ext cx="180000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5516640"/>
            <a:ext cx="201600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éc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4005360"/>
            <a:ext cx="2376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teign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evoirs : réda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ponds aux questions pour écrire la réd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els sont les grands problèmes d’environnement en génér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’on peut faire pour protéger l’environne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e tu fais à la mai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 ce que tu ne fais p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(Qu’est-ce qu’il faudrait fair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els sont les grands problèmes de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effet de serre – les CF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réchauffement de la planè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de l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pluies aci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atmosphér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espèces en voie de disparition. Exemple: le p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27640" y="5445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38800" y="5452920"/>
            <a:ext cx="1223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urée de vie des deche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issé dans les rues ou mis en décharge, le déchet vit encore !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a durée de vie d'un déchet dépend bien sûr de sa composition mais aussi des actions que nous faisons tous les jours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 déchet qui pose le moins de problème, qui ne pollue pas et qui coûte le moins cher, c’est donc celui que l’on ne produit pas !!!!!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-6888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765000"/>
            <a:ext cx="85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0120" y="981000"/>
          <a:ext cx="54658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0120" y="981000"/>
                    <a:ext cx="54658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Les trois “R” de l’environn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duire…la pollution…la consommation…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utili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utiliser le / la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cyc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ecycler le / la /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u centre de recyclage,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il y a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lastique, le polystyrè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apier, le car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’aluminium, le f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p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déchets organ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Go to fullsize image"/>
          <p:cNvPicPr/>
          <p:nvPr/>
        </p:nvPicPr>
        <p:blipFill>
          <a:blip r:embed="rId1"/>
          <a:stretch/>
        </p:blipFill>
        <p:spPr>
          <a:xfrm>
            <a:off x="6877080" y="429264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o to fullsize image"/>
          <p:cNvPicPr/>
          <p:nvPr/>
        </p:nvPicPr>
        <p:blipFill>
          <a:blip r:embed="rId2"/>
          <a:stretch/>
        </p:blipFill>
        <p:spPr>
          <a:xfrm>
            <a:off x="3276720" y="5516640"/>
            <a:ext cx="1511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’est-ce que tu fais pour protéger l’environneme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fais du recycl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ap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las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v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s boîtes en mé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80360" y="2133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4797360"/>
            <a:ext cx="50508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8360" y="2924280"/>
            <a:ext cx="3240000" cy="64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0" cy="18003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429000"/>
            <a:ext cx="2016000" cy="360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789360"/>
            <a:ext cx="0" cy="1008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4076640"/>
            <a:ext cx="2016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4076640"/>
            <a:ext cx="0" cy="6476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4869000"/>
            <a:ext cx="0" cy="18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6742080"/>
            <a:ext cx="1727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67640" y="6453360"/>
            <a:ext cx="71280" cy="2887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électricité. Par exemple j’éteins les lumières quand je quitte 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au. Par exemple, je ferme le robinet quand je me la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ssence. Par exemple, j’utilise le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150920" cy="1120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08360" y="3716280"/>
            <a:ext cx="1152720" cy="11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1224000" cy="114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04000" y="5373720"/>
            <a:ext cx="1224000" cy="11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580536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 la maison, nou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ecyclons le papier et le v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voyageons à pied et en bus souv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éduisons la consommation d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M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ecyclons pas les canettes en alumin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éutilisons pas les sacs en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’éteignons pas les lumières quand nous sortons d’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A ton avis, qu’est-ce qu’il 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faudrait</a:t>
            </a: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 faire pour plus proteger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mon avis, il faudrait plus recycler tous les déch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faudrait aussi économiser l’énergie en général: l’électricité et l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erre n’est pas une poubelle ! Il ne faudrait pas jeter les déchets par ter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43700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4437000"/>
            <a:ext cx="865080" cy="644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595008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12:41:04Z</dcterms:created>
  <dc:creator>Virginie Passerat</dc:creator>
  <dc:description/>
  <dc:language>en-US</dc:language>
  <cp:lastModifiedBy>Ministry of Education</cp:lastModifiedBy>
  <dcterms:modified xsi:type="dcterms:W3CDTF">2009-04-27T22:20:52Z</dcterms:modified>
  <cp:revision>67</cp:revision>
  <dc:subject/>
  <dc:title>Slide 1</dc:title>
</cp:coreProperties>
</file>